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5.gif" ContentType="image/gif"/>
  <Override PartName="/ppt/media/image9.jpeg" ContentType="image/jpeg"/>
  <Override PartName="/ppt/media/image48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34.jpeg" ContentType="image/jpeg"/>
  <Override PartName="/ppt/media/image37.png" ContentType="image/png"/>
  <Override PartName="/ppt/media/image49.png" ContentType="image/png"/>
  <Override PartName="/ppt/media/image51.png" ContentType="image/png"/>
  <Override PartName="/ppt/media/image11.gif" ContentType="image/gif"/>
  <Override PartName="/ppt/media/image13.png" ContentType="image/png"/>
  <Override PartName="/ppt/media/image12.jpeg" ContentType="image/jpeg"/>
  <Override PartName="/ppt/media/image10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2.jpeg" ContentType="image/jpeg"/>
  <Override PartName="/ppt/media/image6.png" ContentType="image/png"/>
  <Override PartName="/ppt/media/image36.png" ContentType="image/png"/>
  <Override PartName="/ppt/media/image50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956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Rage Italic"/>
              </a:rPr>
              <a:t>Click to move the slide</a:t>
            </a: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zh-TW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5B5BA94D-B0FF-445D-9A49-7BB1AC604C56}" type="slidenum"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AE8B22C-EECF-44A0-8F88-35BCA61172C3}" type="slidenum"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35000" y="80172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0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There is three topic I will present, First one is what you need, it means what cyclist might need in 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,we apply Casio and LG Sunlight readable TSP in BV-3200 to let user could operate in outdoor even in a des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We also improve BV-3200 to be a waterproof device with IPX7 cert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IPX7 waterproof is to be in 1M for 30 minutes. It will let BV-3200 be excellent in outdoor applicai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feature is ANT+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cyclist would like to check their heart rate and cadence in cycling trip, so we integrated 2.4GHz ANT+ communication in BV-3200 to let user could monitor their heart rate and cadence or share route/track/waypoint to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ng with music is a truly pleasure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integrate BT into BV-3200 to let User could not only listen the guidance but also enjoy music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RTK sports Navi is a strong feature which is from our own development in BV-32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RTK sports Navi is a off road Navigation with 20M resolution Contour,Trip computer,3D compass/Altimeter/Odometer/Trip,Heart rate and cadence monitor and route/track/waypoint ma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3960"/>
            <a:ext cx="5680080" cy="4602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K sports is integrated with On road navigation, user could switch On road/Off road easily to check more cycling in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9280" y="61920"/>
            <a:ext cx="1656000" cy="858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Rage Italic"/>
              </a:rPr>
              <a:t>Click to edit the title text format</a:t>
            </a:r>
            <a:endParaRPr b="1" lang="en-US" sz="40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1079640" indent="-366840">
              <a:spcBef>
                <a:spcPts val="601"/>
              </a:spcBef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612800" indent="-26496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2158920" indent="-277560"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567160" indent="-228600">
              <a:spcBef>
                <a:spcPts val="6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5671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5671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54280" y="64458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RoyalTek,  All rights reser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8280" y="6451560"/>
            <a:ext cx="158436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gradFill rotWithShape="0">
            <a:gsLst>
              <a:gs pos="0">
                <a:srgbClr val="fefefe">
                  <a:alpha val="8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99ff33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507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8604360" y="0"/>
            <a:ext cx="5396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Rage Italic"/>
              </a:rPr>
              <a:t>Click to edit the title text format</a:t>
            </a:r>
            <a:endParaRPr b="1" lang="en-US" sz="5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algn="ctr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3" algn="ctr">
              <a:spcBef>
                <a:spcPts val="4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4" algn="ctr">
              <a:spcBef>
                <a:spcPts val="4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5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6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19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2.wmf"/><Relationship Id="rId5" Type="http://schemas.openxmlformats.org/officeDocument/2006/relationships/image" Target="../media/image24.png"/><Relationship Id="rId6" Type="http://schemas.openxmlformats.org/officeDocument/2006/relationships/image" Target="../media/image22.wmf"/><Relationship Id="rId7" Type="http://schemas.openxmlformats.org/officeDocument/2006/relationships/image" Target="../media/image20.png"/><Relationship Id="rId8" Type="http://schemas.openxmlformats.org/officeDocument/2006/relationships/image" Target="../media/image25.png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1728720" cy="89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6480" y="6354720"/>
            <a:ext cx="9144000" cy="5032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54280" y="64458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RoyalTek,  All rights reser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99ff33">
                  <a:alpha val="68235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6451560"/>
            <a:ext cx="1584360" cy="317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8000" y="10152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Impact"/>
              </a:rPr>
              <a:t>Royal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gradFill rotWithShape="0">
            <a:gsLst>
              <a:gs pos="0">
                <a:srgbClr val="fefefe">
                  <a:alpha val="8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25560" y="1525680"/>
            <a:ext cx="9144000" cy="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573360"/>
            <a:ext cx="5292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Monotype Corsiva"/>
              </a:rPr>
              <a:t>Upgrade your</a:t>
            </a: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Monotype Corsiva"/>
              </a:rPr>
              <a:t>Bi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         </a:t>
            </a:r>
            <a:r>
              <a:rPr b="1" lang="en-US" sz="4000" spc="-1" strike="noStrike">
                <a:solidFill>
                  <a:srgbClr val="808080"/>
                </a:solidFill>
                <a:latin typeface="Monotype Corsiva"/>
              </a:rPr>
              <a:t>Upgrade your</a:t>
            </a: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Monotype Corsiva"/>
              </a:rPr>
              <a:t>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BV-3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utdoor G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2641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Rage Italic"/>
              </a:rPr>
              <a:t>RTK Sports Navi- Guidance 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67280" y="2924280"/>
            <a:ext cx="280800" cy="453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677960" y="4237200"/>
            <a:ext cx="2701800" cy="2025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User could execute navigation from RTK sports N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and check route/cycling information i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V-3200 will guide you direction and enjoy the music at the same tim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87280" y="2112840"/>
            <a:ext cx="6769440" cy="3979800"/>
            <a:chOff x="1187280" y="2112840"/>
            <a:chExt cx="6769440" cy="39798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3780000" y="4849560"/>
              <a:ext cx="165564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3635280" y="2112840"/>
              <a:ext cx="189396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5724360" y="4417920"/>
              <a:ext cx="223236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1187280" y="4417920"/>
              <a:ext cx="2232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flipH="1" flipV="1">
              <a:off x="5508720" y="3480840"/>
              <a:ext cx="1079280" cy="863640"/>
            </a:xfrm>
            <a:prstGeom prst="line">
              <a:avLst/>
            </a:prstGeom>
            <a:ln w="31680">
              <a:solidFill>
                <a:srgbClr val="99cc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347640" y="5352840"/>
              <a:ext cx="647640" cy="0"/>
            </a:xfrm>
            <a:prstGeom prst="line">
              <a:avLst/>
            </a:prstGeom>
            <a:ln w="31680">
              <a:solidFill>
                <a:srgbClr val="99cc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6012000" y="3481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003640" y="5352840"/>
              <a:ext cx="719280" cy="0"/>
            </a:xfrm>
            <a:prstGeom prst="line">
              <a:avLst/>
            </a:prstGeom>
            <a:ln w="31680">
              <a:solidFill>
                <a:srgbClr val="99cc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338560" y="3480840"/>
              <a:ext cx="1225440" cy="863640"/>
            </a:xfrm>
            <a:prstGeom prst="line">
              <a:avLst/>
            </a:prstGeom>
            <a:ln w="31680">
              <a:solidFill>
                <a:srgbClr val="99cc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2124000" y="3424320"/>
              <a:ext cx="73980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Rage Italic"/>
              </a:rPr>
              <a:t>RTK Sports Navi- </a:t>
            </a:r>
            <a:r>
              <a:rPr b="1" lang="zh-TW" sz="3200" spc="-1" strike="noStrike">
                <a:solidFill>
                  <a:srgbClr val="000000"/>
                </a:solidFill>
                <a:latin typeface="Rage Italic"/>
              </a:rPr>
              <a:t>Music&amp;Guidance</a:t>
            </a:r>
            <a:endParaRPr b="1" lang="en-US" sz="3200" spc="-1" strike="noStrike">
              <a:solidFill>
                <a:srgbClr val="009900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Rage Italic"/>
              </a:rPr>
              <a:t>RTK Sports Navi- </a:t>
            </a:r>
            <a:r>
              <a:rPr b="1" lang="zh-TW" sz="3200" spc="-1" strike="noStrike">
                <a:solidFill>
                  <a:srgbClr val="000000"/>
                </a:solidFill>
                <a:latin typeface="Rage Italic"/>
              </a:rPr>
              <a:t>Bicycle Trail</a:t>
            </a:r>
            <a:endParaRPr b="1" lang="en-US" sz="32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iwan Bicycle trai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100 famous bicycle tracks in Taiwa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or four season and different difficult level 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0" y="2997360"/>
            <a:ext cx="4176720" cy="279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23972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22720" y="907920"/>
            <a:ext cx="5452920" cy="5453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248000" y="2421000"/>
            <a:ext cx="3384720" cy="2597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769080" y="1177920"/>
            <a:ext cx="2050920" cy="186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168720" y="836640"/>
            <a:ext cx="2124000" cy="1932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735280" y="4078440"/>
            <a:ext cx="2125800" cy="193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6572160" y="4494240"/>
            <a:ext cx="2089080" cy="1900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Rage Italic"/>
              </a:rPr>
              <a:t>RTK Sports Navi- </a:t>
            </a:r>
            <a:r>
              <a:rPr b="1" lang="zh-TW" sz="3200" spc="-1" strike="noStrike">
                <a:solidFill>
                  <a:srgbClr val="000000"/>
                </a:solidFill>
                <a:latin typeface="Rage Italic"/>
              </a:rPr>
              <a:t>Bicycle Trail</a:t>
            </a:r>
            <a:endParaRPr b="1" lang="en-US" sz="32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681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cycle trail f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- </a:t>
            </a:r>
            <a:r>
              <a:rPr b="1" lang="en-US" sz="3400" spc="-1" strike="noStrike">
                <a:solidFill>
                  <a:srgbClr val="000000"/>
                </a:solidFill>
                <a:latin typeface="Rage Italic"/>
              </a:rPr>
              <a:t>Planner &amp; Sports Center</a:t>
            </a:r>
            <a:endParaRPr b="1" lang="en-US" sz="3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ck Planner (PC site) -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let user to pre-plan the track on PC sit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4848120" cy="2960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76360" y="2054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ck/Route Pl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3851280" y="3970440"/>
            <a:ext cx="5076720" cy="2138400"/>
          </a:xfrm>
          <a:prstGeom prst="rect">
            <a:avLst/>
          </a:prstGeom>
          <a:ln w="0">
            <a:noFill/>
          </a:ln>
        </p:spPr>
      </p:pic>
      <p:cxnSp>
        <p:nvCxnSpPr>
          <p:cNvPr id="194" name="直線單箭頭接點 10"/>
          <p:cNvCxnSpPr/>
          <p:nvPr/>
        </p:nvCxnSpPr>
        <p:spPr>
          <a:xfrm flipH="1">
            <a:off x="4460040" y="3665520"/>
            <a:ext cx="17535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95" name="文字方塊 11"/>
          <p:cNvSpPr/>
          <p:nvPr/>
        </p:nvSpPr>
        <p:spPr>
          <a:xfrm>
            <a:off x="5986080" y="32846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ay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直線單箭頭接點 14"/>
          <p:cNvCxnSpPr/>
          <p:nvPr/>
        </p:nvCxnSpPr>
        <p:spPr>
          <a:xfrm flipH="1">
            <a:off x="5832000" y="3741840"/>
            <a:ext cx="61056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97" name="直線單箭頭接點 17"/>
          <p:cNvCxnSpPr/>
          <p:nvPr/>
        </p:nvCxnSpPr>
        <p:spPr>
          <a:xfrm>
            <a:off x="6669720" y="3665160"/>
            <a:ext cx="75240" cy="12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98" name="直線單箭頭接點 19"/>
          <p:cNvCxnSpPr/>
          <p:nvPr/>
        </p:nvCxnSpPr>
        <p:spPr>
          <a:xfrm>
            <a:off x="6822000" y="3665160"/>
            <a:ext cx="762840" cy="152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99" name="直線單箭頭接點 21"/>
          <p:cNvCxnSpPr/>
          <p:nvPr/>
        </p:nvCxnSpPr>
        <p:spPr>
          <a:xfrm>
            <a:off x="6975360" y="3665520"/>
            <a:ext cx="915120" cy="1448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0" name="直線單箭頭接點 23"/>
          <p:cNvCxnSpPr/>
          <p:nvPr/>
        </p:nvCxnSpPr>
        <p:spPr>
          <a:xfrm>
            <a:off x="7127640" y="3665520"/>
            <a:ext cx="114372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- </a:t>
            </a:r>
            <a:r>
              <a:rPr b="1" lang="en-US" sz="3400" spc="-1" strike="noStrike">
                <a:solidFill>
                  <a:srgbClr val="000000"/>
                </a:solidFill>
                <a:latin typeface="Rage Italic"/>
              </a:rPr>
              <a:t>Planner &amp; Sports Center</a:t>
            </a:r>
            <a:endParaRPr b="1" lang="en-US" sz="34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orts Center (PC sit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let user to analyze the track which generated from BV-3200 after cycling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50920" y="2854440"/>
            <a:ext cx="4681440" cy="3049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6200" y="24004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ort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473360" cy="2933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940360" y="28544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ve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" y="95400"/>
            <a:ext cx="91090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Rage Italic"/>
              </a:rPr>
              <a:t>Feature</a:t>
            </a:r>
            <a:r>
              <a:rPr b="1" lang="en-US" sz="3200" spc="-1" strike="noStrike">
                <a:solidFill>
                  <a:srgbClr val="000000"/>
                </a:solidFill>
                <a:latin typeface="Rage Italic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Rage Italic"/>
              </a:rPr>
              <a:t>Installation available on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Rage Italic"/>
              </a:rPr>
              <a:t>                   Bike/Motorcycle/Car</a:t>
            </a:r>
            <a:endParaRPr b="1" lang="en-US" sz="28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96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cycle/Motorcycle/Car accesso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r can Install BV-3200 on bicycle/motorcycle/car by special moun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564000" y="3068640"/>
            <a:ext cx="2508120" cy="2736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4720" y="29908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Bi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29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659640" y="3645000"/>
            <a:ext cx="2000160" cy="2016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564000" y="29908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Motor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1728720" cy="896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840" y="6354720"/>
            <a:ext cx="9144000" cy="5032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120" y="64458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RoyalTek,  All rights reser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2133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BV-3200</a:t>
            </a:r>
            <a:r>
              <a:rPr b="1" lang="en-US" sz="48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99ff33">
                  <a:alpha val="68235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14480" y="6451560"/>
            <a:ext cx="1584000" cy="317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gradFill rotWithShape="0">
            <a:gsLst>
              <a:gs pos="0">
                <a:srgbClr val="fefefe">
                  <a:alpha val="8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817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300720" y="4508640"/>
            <a:ext cx="2594160" cy="1598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8000" y="101520"/>
            <a:ext cx="27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Impact"/>
              </a:rPr>
              <a:t>Royal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Spec.-Hardware</a:t>
            </a:r>
            <a:endParaRPr b="1" lang="en-US" sz="40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981000"/>
            <a:ext cx="2879640" cy="525636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5256360"/>
              <a:gd name="textAreaBottom" fmla="*/ 5115960 h 5256360"/>
            </a:gdLst>
            <a:ahLst/>
            <a:rect l="textAreaLeft" t="textAreaTop" r="textAreaRight" b="textAreaBottom"/>
            <a:pathLst>
              <a:path w="21600" h="39425">
                <a:moveTo>
                  <a:pt x="3600" y="0"/>
                </a:moveTo>
                <a:arcTo wR="3600" hR="3600" stAng="16200000" swAng="-5400000"/>
                <a:lnTo>
                  <a:pt x="0" y="35825"/>
                </a:lnTo>
                <a:arcTo wR="3600" hR="3600" stAng="10800000" swAng="-5400000"/>
                <a:lnTo>
                  <a:pt x="18000" y="394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429000"/>
            <a:ext cx="2808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3.5” LCD with TSP (Touch Screen Pa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Sunlight rea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GPS On road and Off ro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nav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Cycling Information displ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MP3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2.4GHz ANT+ sport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Bluetooth audio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Recharge and replace 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IPX7 water proof in out 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標楷體"/>
              </a:rPr>
              <a:t>Installation available on Bicycle/Motorcycle/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2924280"/>
            <a:ext cx="2879640" cy="504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1268280"/>
            <a:ext cx="4248360" cy="4753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4753080"/>
              <a:gd name="textAreaBottom" fmla="*/ 4545720 h 4753080"/>
            </a:gdLst>
            <a:ahLst/>
            <a:rect l="textAreaLeft" t="textAreaTop" r="textAreaRight" b="textAreaBottom"/>
            <a:pathLst>
              <a:path w="21600" h="24166">
                <a:moveTo>
                  <a:pt x="3600" y="0"/>
                </a:moveTo>
                <a:arcTo wR="3600" hR="3600" stAng="16200000" swAng="-5400000"/>
                <a:lnTo>
                  <a:pt x="0" y="20566"/>
                </a:lnTo>
                <a:arcTo wR="3600" hR="3600" stAng="10800000" swAng="-5400000"/>
                <a:lnTo>
                  <a:pt x="18000" y="24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333399"/>
                </a:solidFill>
                <a:latin typeface="Arial"/>
              </a:rPr>
              <a:t>Key HW S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333399"/>
                </a:solidFill>
                <a:latin typeface="Arial"/>
              </a:rPr>
              <a:t>Samsung S3C2416 @ 40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Memory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</a:rPr>
              <a:t>128MB mDDR SD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333399"/>
                </a:solidFill>
                <a:latin typeface="Arial"/>
              </a:rPr>
              <a:t>2GB/4GB internal NAND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Arial"/>
                <a:ea typeface="標楷體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3.5" sunlight readable with T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333399"/>
                </a:solidFill>
                <a:latin typeface="Arial"/>
              </a:rPr>
              <a:t>Broadcom BCM4750</a:t>
            </a:r>
            <a:r>
              <a:rPr b="1" lang="zh-TW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</a:rPr>
              <a:t>E-compass/ G sensor/Alti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Barometric 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</a:rPr>
              <a:t>Wireless Data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Arial"/>
                <a:ea typeface="標楷體"/>
              </a:rPr>
              <a:t>   </a:t>
            </a:r>
            <a:r>
              <a:rPr b="1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2.4GHz ANT+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99"/>
                </a:solidFill>
                <a:latin typeface="Arial"/>
                <a:ea typeface="標楷體"/>
              </a:rPr>
              <a:t>Wireless audio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Arial"/>
                <a:ea typeface="標楷體"/>
              </a:rPr>
              <a:t>   </a:t>
            </a:r>
            <a:r>
              <a:rPr b="0" lang="zh-TW" sz="1600" spc="-1" strike="noStrike">
                <a:solidFill>
                  <a:srgbClr val="333399"/>
                </a:solidFill>
                <a:latin typeface="Arial"/>
                <a:ea typeface="標楷體"/>
              </a:rPr>
              <a:t>Bluetooth2.0 module</a:t>
            </a:r>
            <a:r>
              <a:rPr b="0" lang="zh-TW" sz="1200" spc="-1" strike="noStrike">
                <a:solidFill>
                  <a:srgbClr val="333399"/>
                </a:solidFill>
                <a:latin typeface="Arial"/>
                <a:ea typeface="標楷體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18734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Spec.-Software</a:t>
            </a:r>
            <a:endParaRPr b="1" lang="en-US" sz="40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On road/Off road (RTK sports) navig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ycling information displa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P3 play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hoto view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T audio commun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4G ANT+ commun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371628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oto 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227640" y="10461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2720" y="37339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n road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4167360"/>
            <a:ext cx="2467080" cy="1850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227640" y="412920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3348000" y="4149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419640" y="371628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P3 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you ne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V-3200 Specifi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hedule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9900"/>
              </a:solidFill>
              <a:latin typeface="Rage Ital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24360" y="2781360"/>
            <a:ext cx="4743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Spec.-Mechanical design</a:t>
            </a:r>
            <a:endParaRPr b="1" lang="en-US" sz="40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mension &amp; Weight: 99 x 80.6 x 26.2 mm,190 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ful and robustness ID desig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 SD slot suppor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hargeable &amp; Replaceable 3.7V/1800 mAH Li-ion,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Up to 4.5hr in normal operation)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63640" y="3905280"/>
            <a:ext cx="5786640" cy="1825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40360" y="4581360"/>
            <a:ext cx="371160" cy="400320"/>
          </a:xfrm>
          <a:prstGeom prst="rightArrow">
            <a:avLst>
              <a:gd name="adj1" fmla="val 57713"/>
              <a:gd name="adj2" fmla="val 493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1728720" cy="896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840" y="6354720"/>
            <a:ext cx="9144000" cy="5032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70120" y="64458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RoyalTek,  All rights reser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70828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Start enjoying your life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 Black"/>
              </a:rPr>
              <a:t>BV-3200</a:t>
            </a:r>
            <a:r>
              <a:rPr b="1" lang="en-US" sz="48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99ff33">
                  <a:alpha val="68235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14480" y="6451560"/>
            <a:ext cx="1584000" cy="317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gradFill rotWithShape="0">
            <a:gsLst>
              <a:gs pos="0">
                <a:srgbClr val="fefefe">
                  <a:alpha val="8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817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8000" y="101520"/>
            <a:ext cx="308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Impact"/>
              </a:rPr>
              <a:t>Royal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1728720" cy="89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840" y="6354720"/>
            <a:ext cx="9144000" cy="5032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78040" y="64458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RoyalTek,  All rights reser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700280"/>
            <a:ext cx="842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What you need</a:t>
            </a:r>
            <a:r>
              <a:rPr b="1" lang="en-US" sz="4800" spc="-1" strike="noStrike">
                <a:solidFill>
                  <a:srgbClr val="00cc00"/>
                </a:solidFill>
                <a:latin typeface="Arial Blac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</a:t>
            </a: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BV-3200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feature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99ff33">
                  <a:alpha val="68235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4480" y="6451560"/>
            <a:ext cx="1584000" cy="31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gradFill rotWithShape="0">
            <a:gsLst>
              <a:gs pos="0">
                <a:srgbClr val="fefefe">
                  <a:alpha val="8117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817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020000" y="4148280"/>
            <a:ext cx="2124000" cy="20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8000" y="101520"/>
            <a:ext cx="308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Impact"/>
              </a:rPr>
              <a:t>Royal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- Sunlight readable TSP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9900"/>
                </a:solidFill>
                <a:latin typeface="Arial"/>
              </a:rPr>
              <a:t>3.5” Sunlight readable touch screen panel</a:t>
            </a: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to let user could operate BV-3200 in outdoor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- IPX7 water proof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X7 water proof for outdoor ap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Waterproof to 1m for 30minutes to let BV-3200 b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excellent in outdoor ap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59280" y="2708280"/>
            <a:ext cx="318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5292720" cy="5054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- ANT+ communication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981000"/>
            <a:ext cx="57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2.4GHz ANT+ communication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396072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ng with Heart rate belt to monitor on BV-3200 Sports Navi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ng with Cadence sensor to monitor on BV-3200 Sports Navi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ing route/track/waypoint information with frien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22760" y="23972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828800" cy="752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- 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Bluetooth Audio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ing the music through Bluetooth headse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ing the navigation guidance through Bluetooth headse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3311280" cy="206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21160" y="3098880"/>
            <a:ext cx="576360" cy="51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65960" y="399096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24360" y="3573360"/>
            <a:ext cx="863640" cy="50328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0"/>
                </a:moveTo>
                <a:cubicBezTo>
                  <a:pt x="23" y="60"/>
                  <a:pt x="46" y="121"/>
                  <a:pt x="91" y="136"/>
                </a:cubicBezTo>
                <a:cubicBezTo>
                  <a:pt x="136" y="151"/>
                  <a:pt x="219" y="84"/>
                  <a:pt x="272" y="91"/>
                </a:cubicBezTo>
                <a:cubicBezTo>
                  <a:pt x="325" y="98"/>
                  <a:pt x="371" y="151"/>
                  <a:pt x="409" y="181"/>
                </a:cubicBezTo>
                <a:cubicBezTo>
                  <a:pt x="447" y="211"/>
                  <a:pt x="473" y="241"/>
                  <a:pt x="499" y="272"/>
                </a:cubicBezTo>
              </a:path>
            </a:pathLst>
          </a:custGeom>
          <a:noFill/>
          <a:ln w="25560">
            <a:solidFill>
              <a:srgbClr val="3366ff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692360" y="2637000"/>
            <a:ext cx="35798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ge Italic"/>
              </a:rPr>
              <a:t>Feature- </a:t>
            </a:r>
            <a:r>
              <a:rPr b="1" lang="en-US" sz="3600" spc="-1" strike="noStrike">
                <a:solidFill>
                  <a:srgbClr val="000000"/>
                </a:solidFill>
                <a:latin typeface="Rage Italic"/>
              </a:rPr>
              <a:t>RTK Sports Navi</a:t>
            </a:r>
            <a:endParaRPr b="1" lang="en-US" sz="3600" spc="-1" strike="noStrike">
              <a:solidFill>
                <a:srgbClr val="009900"/>
              </a:solidFill>
              <a:latin typeface="Rage Ital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9900"/>
                </a:solidFill>
                <a:latin typeface="Arial"/>
              </a:rPr>
              <a:t>RTK Sport Navi- Off Road Navig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Contour resolution 20m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Trip Comput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3D E-Compass/Altimeter/ 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Odometer/Trip time 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Heart rate/Cadence monito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200" spc="-1" strike="noStrike">
                <a:solidFill>
                  <a:srgbClr val="000000"/>
                </a:solidFill>
                <a:latin typeface="Arial"/>
              </a:rPr>
              <a:t>Waypoints/Tracks/Route Manag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0194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5440" y="4019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ip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4451400"/>
            <a:ext cx="2736720" cy="189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543400" cy="190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5080" y="400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-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227640" y="1986120"/>
            <a:ext cx="2611440" cy="180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732720" y="15969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evation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8360" y="4451400"/>
            <a:ext cx="25081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636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Road/ Off Road Navigation Integ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Rage Italic"/>
              </a:rPr>
              <a:t>RTK Sports Navi- </a:t>
            </a:r>
            <a:r>
              <a:rPr b="1" lang="zh-TW" sz="3200" spc="-1" strike="noStrike">
                <a:solidFill>
                  <a:srgbClr val="000000"/>
                </a:solidFill>
                <a:latin typeface="Rage Italic"/>
              </a:rPr>
              <a:t>On/Off Road</a:t>
            </a:r>
            <a:endParaRPr b="1" lang="en-US" sz="3200" spc="-1" strike="noStrike">
              <a:solidFill>
                <a:srgbClr val="009900"/>
              </a:solidFill>
              <a:latin typeface="Rage Ital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2759040" cy="203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987640" y="5589720"/>
            <a:ext cx="282600" cy="44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2712960" cy="203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867280" y="4581360"/>
            <a:ext cx="281160" cy="454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1964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ff road &lt;=&gt;On r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2448000" cy="1982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564000" y="3178080"/>
            <a:ext cx="280800" cy="453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140360" y="20988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4788000" y="414972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6659640" y="3179880"/>
            <a:ext cx="28080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0:12:48Z</dcterms:created>
  <dc:creator>Jerry</dc:creator>
  <dc:description/>
  <dc:language>en-US</dc:language>
  <cp:lastModifiedBy>Jack.Wan</cp:lastModifiedBy>
  <dcterms:modified xsi:type="dcterms:W3CDTF">2009-09-18T01:10:59Z</dcterms:modified>
  <cp:revision>758</cp:revision>
  <dc:subject/>
  <dc:title>投影片 1</dc:title>
</cp:coreProperties>
</file>