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B59-1960-4781-8856-CFC77215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0F9-CE07-4EB5-90D4-3A8EBE64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C44-9B1C-4E11-A6B6-BF68B528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54C-A5B4-4416-9FC2-6EA355A6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B30-B3CD-4E40-801D-393D7DD8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64D-C1CA-4BF4-8054-2C755340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9C2-B877-4256-A527-7E822DAE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5E1-2AF7-4764-8FD3-1D391140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F9A-3EB0-4115-B591-12D4E81F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583-F753-4FC7-982E-8AB17AC6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0AB-9F06-4FA1-92DB-4F48A5BE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3B7-246E-4158-8957-1056B65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83C-179A-4233-B42C-EA29D4CD2C57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1640" y="411120"/>
            <a:ext cx="744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177336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roduct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RMC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80"/>
                </a:solidFill>
                <a:latin typeface="Arial"/>
              </a:rPr>
              <a:t>GPRS Cra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20720" y="4581360"/>
            <a:ext cx="1584360" cy="3175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87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198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201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465120" y="18900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Application-Twitter(1/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893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207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210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463680" y="18900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Application-Traffic Information(2/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16000" y="1406520"/>
            <a:ext cx="88200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216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219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464040" y="189000"/>
            <a:ext cx="74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Application- Weather Information(3/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4360" y="1413000"/>
            <a:ext cx="89647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225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228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466560" y="189000"/>
            <a:ext cx="68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Application-Commercial User (4/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0560" y="981000"/>
            <a:ext cx="2521080" cy="3095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3573360"/>
            <a:ext cx="2592360" cy="3213360"/>
          </a:xfrm>
          <a:prstGeom prst="lef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0560" y="1773360"/>
            <a:ext cx="2233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ti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 spe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time car lo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 occupation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bery ala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4437000"/>
            <a:ext cx="1871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ffic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 custo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lo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king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s…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1280" y="2600280"/>
            <a:ext cx="2772000" cy="1835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851280" y="350028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PRS Net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160720" cy="2449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588000" y="46371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46530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71640" y="411120"/>
            <a:ext cx="744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6920" y="1890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Application(5/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244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247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"/>
          <p:cNvSpPr/>
          <p:nvPr/>
        </p:nvSpPr>
        <p:spPr>
          <a:xfrm>
            <a:off x="755640" y="1484280"/>
            <a:ext cx="77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For network service only support one socket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connection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SMS and Window CE standard HTTP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servi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RTK don’t provide the application S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Other network services are not supported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an not support FTP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an not use with Y c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an not use with TM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ata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55680" y="210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System Interface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197000"/>
          <a:ext cx="8064360" cy="2673360"/>
        </p:xfrm>
        <a:graphic>
          <a:graphicData uri="http://schemas.openxmlformats.org/drawingml/2006/table">
            <a:tbl>
              <a:tblPr/>
              <a:tblGrid>
                <a:gridCol w="2035080"/>
                <a:gridCol w="602928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face</a:t>
                      </a:r>
                      <a:r>
                        <a:rPr b="0" lang="zh-TW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spec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 Roman"/>
                        </a:rPr>
                        <a:t>Communicate with P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10 pins POGO pin connec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 Roman"/>
                        </a:rPr>
                        <a:t>Communicate with P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10 pins POGO pin connec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7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 Power Cable --5 pins I/O (TBD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default:  mini-USB B type plug connecto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1 Vcc: 5V ± 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2 not us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3 not us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4 G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5 GN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254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257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771640" y="3933720"/>
            <a:ext cx="4384800" cy="20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468360" y="3860640"/>
          <a:ext cx="8064360" cy="2232000"/>
        </p:xfrm>
        <a:graphic>
          <a:graphicData uri="http://schemas.openxmlformats.org/drawingml/2006/table">
            <a:tbl>
              <a:tblPr/>
              <a:tblGrid>
                <a:gridCol w="2035080"/>
                <a:gridCol w="6029280"/>
              </a:tblGrid>
              <a:tr h="22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GO Pin Connector Interfac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40000" y="21096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54040" y="1552680"/>
          <a:ext cx="8064360" cy="1881000"/>
        </p:xfrm>
        <a:graphic>
          <a:graphicData uri="http://schemas.openxmlformats.org/drawingml/2006/table">
            <a:tbl>
              <a:tblPr/>
              <a:tblGrid>
                <a:gridCol w="2035080"/>
                <a:gridCol w="602928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mental Specifications</a:t>
                      </a:r>
                      <a:r>
                        <a:rPr b="0" lang="en-AU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spec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emperatur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• </a:t>
                      </a: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perating: -0°C to 55°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• </a:t>
                      </a: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orage: -10°C to 70°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humidity (non-condensing )</a:t>
                      </a: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• </a:t>
                      </a: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perating: 20 % to 90 % R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• </a:t>
                      </a:r>
                      <a:r>
                        <a:rPr b="0" lang="en-A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n-operating: &lt; 20 % RH and &gt;90 % R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265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268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40360" y="21096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RF Sp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39640" y="1557360"/>
          <a:ext cx="8064360" cy="1560240"/>
        </p:xfrm>
        <a:graphic>
          <a:graphicData uri="http://schemas.openxmlformats.org/drawingml/2006/table">
            <a:tbl>
              <a:tblPr/>
              <a:tblGrid>
                <a:gridCol w="2035080"/>
                <a:gridCol w="602928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uctive SPEC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spec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TX Pow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≧</a:t>
                      </a: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dBm @900MHz    ;    ≧27dBm @1800MHz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RX BLER(10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≦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104dBm @900MHz  ;    ≦-104dBm @1800MHz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274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277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80" name=""/>
          <p:cNvGraphicFramePr/>
          <p:nvPr/>
        </p:nvGraphicFramePr>
        <p:xfrm>
          <a:off x="539640" y="3716280"/>
          <a:ext cx="8064360" cy="1560600"/>
        </p:xfrm>
        <a:graphic>
          <a:graphicData uri="http://schemas.openxmlformats.org/drawingml/2006/table">
            <a:tbl>
              <a:tblPr/>
              <a:tblGrid>
                <a:gridCol w="2035080"/>
                <a:gridCol w="602928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ation SPEC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spec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TX Pow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≧</a:t>
                      </a: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dBm @900MHz   ;        ≧26dBm @1800MHz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RX BLER(10%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≦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97dBm @900MHz  ;        ≦-104dBm @1800MHz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9640" y="189000"/>
            <a:ext cx="59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Sales Package(1/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78680" y="1633680"/>
            <a:ext cx="16556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92480" y="3095640"/>
            <a:ext cx="1725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1240" y="391968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Arial"/>
              </a:rPr>
              <a:t>AC charger (2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12840" y="290664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2997360"/>
            <a:ext cx="1371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Arial"/>
              </a:rPr>
              <a:t>Car charger (2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12840" y="1633680"/>
            <a:ext cx="1079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Arial"/>
              </a:rPr>
              <a:t>RMC-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1240" y="1633680"/>
            <a:ext cx="1371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240" y="1268280"/>
            <a:ext cx="7993080" cy="365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In Box, Access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1240" y="1268280"/>
            <a:ext cx="7993080" cy="0"/>
          </a:xfrm>
          <a:prstGeom prst="line">
            <a:avLst/>
          </a:prstGeom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1240" y="1633680"/>
            <a:ext cx="799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3141720"/>
            <a:ext cx="799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4187880"/>
            <a:ext cx="799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5156280"/>
            <a:ext cx="799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112480" y="1628640"/>
            <a:ext cx="11160" cy="4113360"/>
          </a:xfrm>
          <a:prstGeom prst="line">
            <a:avLst/>
          </a:prstGeom>
          <a:ln w="1260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92480" y="1262160"/>
            <a:ext cx="0" cy="526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17960" y="1633680"/>
            <a:ext cx="0" cy="4113000"/>
          </a:xfrm>
          <a:prstGeom prst="line">
            <a:avLst/>
          </a:prstGeom>
          <a:ln w="1260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41960" y="1633680"/>
            <a:ext cx="0" cy="4113000"/>
          </a:xfrm>
          <a:prstGeom prst="line">
            <a:avLst/>
          </a:prstGeom>
          <a:ln w="1260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64360" y="1633680"/>
            <a:ext cx="0" cy="4113000"/>
          </a:xfrm>
          <a:prstGeom prst="line">
            <a:avLst/>
          </a:prstGeom>
          <a:ln w="1260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41240" y="1630440"/>
            <a:ext cx="0" cy="4113000"/>
          </a:xfrm>
          <a:prstGeom prst="line">
            <a:avLst/>
          </a:prstGeom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240" y="6526080"/>
            <a:ext cx="799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734320" y="5122800"/>
            <a:ext cx="0" cy="14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734320" y="1630440"/>
            <a:ext cx="0" cy="4113000"/>
          </a:xfrm>
          <a:prstGeom prst="line">
            <a:avLst/>
          </a:prstGeom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305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/>
          <p:cNvSpPr/>
          <p:nvPr/>
        </p:nvSpPr>
        <p:spPr>
          <a:xfrm>
            <a:off x="741240" y="5743440"/>
            <a:ext cx="79898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4692600"/>
            <a:ext cx="7993080" cy="0"/>
          </a:xfrm>
          <a:prstGeom prst="line">
            <a:avLst/>
          </a:prstGeom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3755880"/>
            <a:ext cx="7993080" cy="0"/>
          </a:xfrm>
          <a:prstGeom prst="line">
            <a:avLst/>
          </a:prstGeom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2736720"/>
            <a:ext cx="7993080" cy="0"/>
          </a:xfrm>
          <a:prstGeom prst="line">
            <a:avLst/>
          </a:prstGeom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3640" y="1628640"/>
            <a:ext cx="0" cy="4113360"/>
          </a:xfrm>
          <a:prstGeom prst="line">
            <a:avLst/>
          </a:prstGeom>
          <a:ln w="1260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314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635280" y="2781360"/>
            <a:ext cx="936720" cy="925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635280" y="1773360"/>
            <a:ext cx="619200" cy="93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95640" y="3933720"/>
            <a:ext cx="1079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3635280" y="3786120"/>
            <a:ext cx="9352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9640" y="189000"/>
            <a:ext cx="59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Sales Package(2/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92480" y="1262160"/>
            <a:ext cx="0" cy="526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1240" y="6526080"/>
            <a:ext cx="799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34320" y="5122800"/>
            <a:ext cx="0" cy="14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325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329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868920" cy="12956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755640" y="2565360"/>
            <a:ext cx="2571840" cy="1428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788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x8=40units    for each t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0360" y="342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x5 =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s   for each car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1258920" y="4365720"/>
            <a:ext cx="1944720" cy="18208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140360" y="51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on dimension: 565x400x400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71640" y="411120"/>
            <a:ext cx="744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360" y="1890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8800" y="1093680"/>
            <a:ext cx="7777080" cy="51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RMC-100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Product Br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Outlin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System T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Compliant P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System Con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Syste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Re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RF Sp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 Sales 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94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97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1052640"/>
            <a:ext cx="8569080" cy="271440"/>
          </a:xfrm>
          <a:prstGeom prst="flowChartAlternateProcess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RS Cra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636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oduct Br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103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106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303120" y="1514520"/>
            <a:ext cx="2735280" cy="4578480"/>
          </a:xfrm>
          <a:custGeom>
            <a:avLst/>
            <a:gdLst>
              <a:gd name="textAreaLeft" fmla="*/ 70560 w 2735280"/>
              <a:gd name="textAreaRight" fmla="*/ 2664720 w 2735280"/>
              <a:gd name="textAreaTop" fmla="*/ 70560 h 4578480"/>
              <a:gd name="textAreaBottom" fmla="*/ 4507920 h 4578480"/>
            </a:gdLst>
            <a:ahLst/>
            <a:rect l="textAreaLeft" t="textAreaTop" r="textAreaRight" b="textAreaBottom"/>
            <a:pathLst>
              <a:path w="21600" h="36153">
                <a:moveTo>
                  <a:pt x="1906" y="0"/>
                </a:moveTo>
                <a:arcTo wR="1906" hR="1906" stAng="16200000" swAng="-5400000"/>
                <a:lnTo>
                  <a:pt x="0" y="34247"/>
                </a:lnTo>
                <a:arcTo wR="1906" hR="1906" stAng="10800000" swAng="-5400000"/>
                <a:lnTo>
                  <a:pt x="19694" y="36153"/>
                </a:lnTo>
                <a:arcTo wR="1906" hR="1906" stAng="5400000" swAng="-5400000"/>
                <a:lnTo>
                  <a:pt x="21600" y="1906"/>
                </a:lnTo>
                <a:arcTo wR="1906" hR="1906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7080" y="1557360"/>
            <a:ext cx="719280" cy="719280"/>
          </a:xfrm>
          <a:prstGeom prst="ellipse">
            <a:avLst/>
          </a:prstGeom>
          <a:gradFill rotWithShape="0">
            <a:gsLst>
              <a:gs pos="0">
                <a:srgbClr val="cc0000">
                  <a:alpha val="99215"/>
                </a:srgbClr>
              </a:gs>
              <a:gs pos="50000">
                <a:srgbClr val="ff6600"/>
              </a:gs>
              <a:gs pos="100000">
                <a:srgbClr val="cc0000">
                  <a:alpha val="9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ct. ‘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3120" y="2795760"/>
            <a:ext cx="2735280" cy="358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PRS Cradl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MC-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1040" y="3807000"/>
            <a:ext cx="2735280" cy="0"/>
          </a:xfrm>
          <a:prstGeom prst="line">
            <a:avLst/>
          </a:prstGeom>
          <a:ln w="1260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5440" y="3789360"/>
            <a:ext cx="2662200" cy="431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3284640"/>
            <a:ext cx="1800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52560" y="3213000"/>
            <a:ext cx="450720" cy="463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2440" y="4324320"/>
            <a:ext cx="2773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990000"/>
                </a:solidFill>
                <a:latin typeface="Arial"/>
              </a:rPr>
              <a:t>GPRS 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upport GSM  Quad Band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850/1900/900/18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IMCOM module (module on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boar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Embedded Anten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18360" y="4395960"/>
            <a:ext cx="2790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99"/>
                </a:solidFill>
                <a:latin typeface="Arial"/>
              </a:rPr>
              <a:t>Dimension &amp; We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64mmx74mmx24.5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49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4221000"/>
            <a:ext cx="2735280" cy="1152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1486080"/>
            <a:ext cx="3024360" cy="4535280"/>
          </a:xfrm>
          <a:custGeom>
            <a:avLst/>
            <a:gdLst>
              <a:gd name="textAreaLeft" fmla="*/ 65880 w 3024360"/>
              <a:gd name="textAreaRight" fmla="*/ 2958480 w 3024360"/>
              <a:gd name="textAreaTop" fmla="*/ 65880 h 4535280"/>
              <a:gd name="textAreaBottom" fmla="*/ 4469400 h 4535280"/>
            </a:gdLst>
            <a:ahLst/>
            <a:rect l="textAreaLeft" t="textAreaTop" r="textAreaRight" b="textAreaBottom"/>
            <a:pathLst>
              <a:path w="21600" h="32390">
                <a:moveTo>
                  <a:pt x="1614" y="0"/>
                </a:moveTo>
                <a:arcTo wR="1614" hR="1614" stAng="16200000" swAng="-5400000"/>
                <a:lnTo>
                  <a:pt x="0" y="30776"/>
                </a:lnTo>
                <a:arcTo wR="1614" hR="1614" stAng="10800000" swAng="-5400000"/>
                <a:lnTo>
                  <a:pt x="19986" y="32390"/>
                </a:lnTo>
                <a:arcTo wR="1614" hR="1614" stAng="5400000" swAng="-5400000"/>
                <a:lnTo>
                  <a:pt x="21600" y="1614"/>
                </a:lnTo>
                <a:arcTo wR="1614" hR="1614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99"/>
                </a:solidFill>
                <a:latin typeface="Arial"/>
              </a:rPr>
              <a:t>Key HW Spe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GPRS Solu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333399"/>
                </a:solidFill>
                <a:latin typeface="Arial"/>
              </a:rPr>
              <a:t>SIMCOM mo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990000"/>
                </a:solidFill>
                <a:latin typeface="Arial"/>
              </a:rPr>
              <a:t>Frequency range</a:t>
            </a: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333399"/>
                </a:solidFill>
                <a:latin typeface="Arial"/>
              </a:rPr>
              <a:t>850/900/1800/19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Data transf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333399"/>
                </a:solidFill>
                <a:latin typeface="Arial"/>
              </a:rPr>
              <a:t>Up to 64kbps GP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ensitivity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333399"/>
                </a:solidFill>
                <a:latin typeface="Arial"/>
              </a:rPr>
              <a:t>&lt;-104d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Operating curren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333399"/>
                </a:solidFill>
                <a:latin typeface="Arial"/>
              </a:rPr>
              <a:t>Normal 50mA, Peak 1.8A</a:t>
            </a: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Connectivity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333399"/>
                </a:solidFill>
                <a:latin typeface="Arial"/>
              </a:rPr>
              <a:t>10 pins pogo pin conn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5400" y="1557360"/>
            <a:ext cx="244332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99"/>
                </a:solidFill>
                <a:latin typeface="Arial"/>
              </a:rPr>
              <a:t>Key SW Spe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upport Windows CE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tandard TCP/IP servi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upport  SMS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upport API to get IMEI 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IMSI of the Sim C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upport API to get Ce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information :MCC , MNC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LAC ,Cell 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0000"/>
                </a:solidFill>
                <a:latin typeface="Arial"/>
              </a:rPr>
              <a:t>Support Data On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1484280"/>
            <a:ext cx="2665440" cy="2592360"/>
          </a:xfrm>
          <a:prstGeom prst="roundRect">
            <a:avLst>
              <a:gd name="adj" fmla="val 8972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042920" y="1557360"/>
            <a:ext cx="80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124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393840" y="189000"/>
            <a:ext cx="42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RMC100 Outline (1/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129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640" y="976320"/>
            <a:ext cx="78487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133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393840" y="189000"/>
            <a:ext cx="41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RMC100 Outline(2/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138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6560" y="981000"/>
            <a:ext cx="74358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411120"/>
            <a:ext cx="744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4920" y="18900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System Tour (1/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640" y="134136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Arial"/>
              </a:rPr>
              <a:t>Fron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145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148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7524720" y="103968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SB DC Conn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38560" y="571968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ogo Pin Conne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73080" y="1916280"/>
            <a:ext cx="6912000" cy="3854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5076720" y="1557360"/>
            <a:ext cx="2448000" cy="208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989440" y="2923920"/>
            <a:ext cx="1150920" cy="2809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71640" y="411120"/>
            <a:ext cx="744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4920" y="18900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System Tour (2/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159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162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1503360"/>
            <a:ext cx="7777080" cy="430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H="1" flipV="1">
            <a:off x="5724360" y="4508280"/>
            <a:ext cx="1727280" cy="21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55166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M Card Sl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3440" y="13413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Arial"/>
              </a:rPr>
              <a:t>Rear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067280" y="4724280"/>
            <a:ext cx="1009440" cy="936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456408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M Slot C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219280" y="3357720"/>
            <a:ext cx="2879640" cy="93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83640" y="2637000"/>
            <a:ext cx="129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M Card Enable Swit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1640" y="411120"/>
            <a:ext cx="744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900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Compliant P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176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179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3384360" cy="2543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3384360" cy="1924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51280" y="47912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6560" y="45021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356000" y="1197000"/>
            <a:ext cx="4753080" cy="3289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780000" y="17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280" y="2109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System Concept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9600" y="893880"/>
            <a:ext cx="8569080" cy="56880"/>
            <a:chOff x="309600" y="893880"/>
            <a:chExt cx="8569080" cy="56880"/>
          </a:xfrm>
        </p:grpSpPr>
        <p:sp>
          <p:nvSpPr>
            <p:cNvPr id="190" name=""/>
            <p:cNvSpPr/>
            <p:nvPr/>
          </p:nvSpPr>
          <p:spPr>
            <a:xfrm>
              <a:off x="309600" y="950760"/>
              <a:ext cx="85690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1400" y="893880"/>
              <a:ext cx="85672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0" y="6165720"/>
            <a:ext cx="9166680" cy="503280"/>
            <a:chOff x="0" y="6165720"/>
            <a:chExt cx="9166680" cy="503280"/>
          </a:xfrm>
        </p:grpSpPr>
        <p:sp>
          <p:nvSpPr>
            <p:cNvPr id="193" name=""/>
            <p:cNvSpPr/>
            <p:nvPr/>
          </p:nvSpPr>
          <p:spPr>
            <a:xfrm>
              <a:off x="0" y="6165720"/>
              <a:ext cx="9144000" cy="5032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54280" y="6256800"/>
              <a:ext cx="38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yright © RoyalTek,  All rights reserv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98280" y="6262560"/>
              <a:ext cx="1584360" cy="31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28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8:10:24Z</dcterms:created>
  <dc:creator>Eddie Chan</dc:creator>
  <dc:description/>
  <dc:language>en-US</dc:language>
  <cp:lastModifiedBy>Customer</cp:lastModifiedBy>
  <dcterms:modified xsi:type="dcterms:W3CDTF">2009-09-15T06:52:52Z</dcterms:modified>
  <cp:revision>192</cp:revision>
  <dc:subject/>
  <dc:title>投影片 1</dc:title>
</cp:coreProperties>
</file>